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278-FE55-448A-B5E2-0FFAF661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8FD-0134-483E-8FC6-ED80686C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825-CC73-4126-A1C9-E5E46364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351-282D-422D-9EA7-40886CAF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F53-9678-4B14-AA7E-56EB42C5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7BA-D715-444C-82A5-464333DE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C23-8C4C-442E-A61D-032E1D6A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729-35ED-4330-A192-E4BE1DE4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424-BE80-44DD-8391-C824335F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412-7A87-433D-B3E6-0FB308A3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1BC-83C1-406A-9BCA-ECEFC34E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A2C-D6F8-42CC-8348-4569E897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01FF-E3C8-4812-AF49-1B3B88E2AD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N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0040" y="128592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teen pronouns or personal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43000" y="1903320"/>
            <a:ext cx="3786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ηλος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ος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αυτος (3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ω, ἡμεις (26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εινος (26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αυτος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20527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other,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86200" y="2700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86200" y="330048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mself, herself, itself (reflex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29040" y="45291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,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29040" y="51436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(pl. tho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829040" y="57675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143000" y="127944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ος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ἀγω (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λος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ὑτος αὑτη τουτο (138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ος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σ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εαυτος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786200" y="1430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, 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786200" y="2076480"/>
            <a:ext cx="38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 (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+ ἐγ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786200" y="26766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le, en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829040" y="3905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what k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829040" y="45194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great, 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829040" y="51451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829040" y="57690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, yours (s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786200" y="33084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(pl. the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43000" y="1279440"/>
            <a:ext cx="37861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, ὑμεις (290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ιουτος (5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786200" y="1430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ing.), you (p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786200" y="20764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uch a kind, 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57280" y="28004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neuter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1143000" y="3300480"/>
            <a:ext cx="37861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νιον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νδρον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υστηριον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τηριον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786200" y="34513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mb, sh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786200" y="40971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786200" y="46958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tery,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4800600" y="52959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828720" y="1617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conj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1414440" y="2117880"/>
            <a:ext cx="3786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α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αρ (10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 (27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ο (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οτι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057640" y="2268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057640" y="29145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,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057640" y="351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072040" y="4113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5072040" y="47386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072040" y="53388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1428840" y="154296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τε (6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ε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ν (1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ποτε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ν (49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 (2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629240" y="1722600"/>
            <a:ext cx="38574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τε ... εἰ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... if, whether ... or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29240" y="298296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629240" y="358128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643280" y="41814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43280" y="48070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cons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43280" y="5407200"/>
            <a:ext cx="38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...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1:36:01Z</dcterms:created>
  <dc:creator>Sarah</dc:creator>
  <dc:description/>
  <dc:language>en-US</dc:language>
  <cp:lastModifiedBy>Sarah</cp:lastModifiedBy>
  <dcterms:modified xsi:type="dcterms:W3CDTF">2009-06-29T10:15:50Z</dcterms:modified>
  <cp:revision>16</cp:revision>
  <dc:subject/>
  <dc:title>Slide 1</dc:title>
</cp:coreProperties>
</file>